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4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5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609480"/>
            <a:ext cx="6553080" cy="609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el DORM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1262160"/>
            <a:ext cx="23623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DORM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NOTTE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BUIO (Gaia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SCURO (Flav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LETTO (Alessand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SONNO (Davide B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FANTASMA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STREGA (Cleopat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LUPO (Fulv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MOSTRO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INCUBO  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PAURA (F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SOGNO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MAMMA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NDIETRO" descr=""/>
          <p:cNvPicPr/>
          <p:nvPr/>
        </p:nvPicPr>
        <p:blipFill>
          <a:blip r:embed="rId1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buio2" descr=""/>
          <p:cNvPicPr/>
          <p:nvPr/>
        </p:nvPicPr>
        <p:blipFill>
          <a:blip r:embed="rId2"/>
          <a:stretch/>
        </p:blipFill>
        <p:spPr>
          <a:xfrm>
            <a:off x="6553080" y="2197080"/>
            <a:ext cx="17146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41:54Z</dcterms:modified>
  <cp:revision>15</cp:revision>
  <dc:subject/>
  <dc:title>Presentazione di PowerPoint</dc:title>
</cp:coreProperties>
</file>