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936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ouck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vagabondo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NDIETR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228600"/>
            <a:ext cx="6705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gioco della CATENA ASSOCIATIVA consiste nel ricercare parole affini a  quella data per significato, valore affettivo, fascino evocativo o semplice aggettivazione. Lo scopo è quello di esplorare il potenziale virtuale di senso delle parole, ricostruendo il panorama semiotico nel quale si inserisc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nvitiamo i bambini a riflettere sulle seguenti paro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209680"/>
            <a:ext cx="25909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’era una 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un piccol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  <a:hlinkClick r:id="rId3"/>
              </a:rPr>
              <a:t>vagabo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e si chiamav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che si er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per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deser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3505320"/>
            <a:ext cx="35816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ava calando l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se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uck si arrampicò su u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al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orm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Buona ide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oiché ululavano 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lu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nell’erba passeggi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serp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1905120"/>
            <a:ext cx="5334120" cy="3962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44:22Z</dcterms:modified>
  <cp:revision>15</cp:revision>
  <dc:subject/>
  <dc:title>Presentazione di PowerPoint</dc:title>
</cp:coreProperties>
</file>