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8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9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0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1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2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3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4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15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0" y="23623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sserviamo e tocchiamo diversi tipi di sabbi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365760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 sentire con le dita la granulosità e la consistenz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HPIM0867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59" name="HPIM0873" descr=""/>
          <p:cNvPicPr/>
          <p:nvPr/>
        </p:nvPicPr>
        <p:blipFill>
          <a:blip r:embed="rId2"/>
          <a:stretch/>
        </p:blipFill>
        <p:spPr>
          <a:xfrm>
            <a:off x="4572000" y="171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21217200">
            <a:off x="2292480" y="450360"/>
            <a:ext cx="2514600" cy="152892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11430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AB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4572000"/>
            <a:ext cx="2362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i sentono tante palline piccole”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Davide Be,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Sembra lo zucchero”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Martin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ono chicchi. Sono piccoli e duri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Ludov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VANTI2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INDIETRO" descr=""/>
          <p:cNvPicPr/>
          <p:nvPr/>
        </p:nvPicPr>
        <p:blipFill>
          <a:blip r:embed="rId4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2320" y="3581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saggiamo il sapore dei datte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4191120"/>
            <a:ext cx="2895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ono come i fichi”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Vittoria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Li mangia sempre Chicco”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Luca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Sono lunghi. Hanno il nocciolo  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dentro”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Martin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Sono sull’albero di Mouck”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Fred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Io li mangio”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Batrou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Sono dolci!”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Mohamed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Come una caramella”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Tommaso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Sembrano il miele”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Matt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ANY0334" descr=""/>
          <p:cNvPicPr/>
          <p:nvPr/>
        </p:nvPicPr>
        <p:blipFill>
          <a:blip r:embed="rId1"/>
          <a:stretch/>
        </p:blipFill>
        <p:spPr>
          <a:xfrm>
            <a:off x="5181480" y="331488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68" name="SANY0335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1324200">
            <a:off x="6705720" y="609120"/>
            <a:ext cx="2438280" cy="137160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1143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T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INDIETRO" descr=""/>
          <p:cNvPicPr/>
          <p:nvPr/>
        </p:nvPicPr>
        <p:blipFill>
          <a:blip r:embed="rId3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tente</cp:lastModifiedBy>
  <dcterms:modified xsi:type="dcterms:W3CDTF">2007-07-05T04:53:59Z</dcterms:modified>
  <cp:revision>16</cp:revision>
  <dc:subject/>
  <dc:title>Presentazione di PowerPoint</dc:title>
</cp:coreProperties>
</file>