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mouck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hyperlink" Target="file:///../documenti/martino_racconta.doc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file:///../documenti/cast_drago.doc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L CASTELLO DEL DR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5435" t="32206" r="13348" b="0"/>
          <a:stretch/>
        </p:blipFill>
        <p:spPr>
          <a:xfrm>
            <a:off x="2340000" y="4149720"/>
            <a:ext cx="3960720" cy="247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0" t="2905" r="0" b="0"/>
          <a:stretch/>
        </p:blipFill>
        <p:spPr>
          <a:xfrm>
            <a:off x="4400640" y="620640"/>
            <a:ext cx="4514760" cy="364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1600" y="1762200"/>
            <a:ext cx="19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pariamo un castello con la colla e la carta di gior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4653000"/>
            <a:ext cx="2471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isogna stropicciare tanta cart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mm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rago45" descr=""/>
          <p:cNvPicPr/>
          <p:nvPr/>
        </p:nvPicPr>
        <p:blipFill>
          <a:blip r:embed="rId1"/>
          <a:srcRect l="10668" t="13000" r="14669" b="3416"/>
          <a:stretch/>
        </p:blipFill>
        <p:spPr>
          <a:xfrm>
            <a:off x="2362320" y="228600"/>
            <a:ext cx="4267080" cy="6369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15200" y="2049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 princip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drago41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776840" cy="6369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38880" y="159228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 un bravo narratore, che dall’alto diriga la rappresent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089240"/>
            <a:ext cx="1676520" cy="2030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eggi la narrazione di 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48560" y="5265720"/>
            <a:ext cx="80640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drago40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5289480"/>
            <a:ext cx="670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’era una volta un re, una regina e la principessa che vivevano in quel castello e sotto ci viveva di nascosto un drago, dentro ad una caverna sotto al castello, dentro ad una grotta al buio e con tanti ragni…”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62920" y="1219320"/>
            <a:ext cx="17524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a un drago feroce. Bruciava le persone con il suo fuoco. Bruciava le persone e poi le mangiava, era spaventoso e mangiava gli uomini. Di notte usciva…apriva le ali e volava e dopo tornava a letto nella sua tana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drago46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776840" cy="63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62320" y="525780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 castello c’era una principessa bellissima…e di giorno si provava i vestiti… ballava… mangiava…. Un giorno il drago esce dalla sua tana e ha sentito il profumo della principessa e sale per le scale per andare a mangiare la principessa… 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drago48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rago49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54100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incipessa ha paura…lo vede e urla. La sente il principe Giorgio che corre per combattere col drago. Combattono e uccide il drago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drago51" descr=""/>
          <p:cNvPicPr/>
          <p:nvPr/>
        </p:nvPicPr>
        <p:blipFill>
          <a:blip r:embed="rId3"/>
          <a:srcRect l="0" t="0" r="23811" b="0"/>
          <a:stretch/>
        </p:blipFill>
        <p:spPr>
          <a:xfrm>
            <a:off x="5257800" y="228600"/>
            <a:ext cx="3657600" cy="3600360"/>
          </a:xfrm>
          <a:prstGeom prst="rect">
            <a:avLst/>
          </a:prstGeom>
          <a:ln w="0">
            <a:noFill/>
          </a:ln>
        </p:spPr>
      </p:pic>
      <p:pic>
        <p:nvPicPr>
          <p:cNvPr id="137" name="drago53" descr=""/>
          <p:cNvPicPr/>
          <p:nvPr/>
        </p:nvPicPr>
        <p:blipFill>
          <a:blip r:embed="rId4"/>
          <a:srcRect l="21540" t="0" r="7693" b="0"/>
          <a:stretch/>
        </p:blipFill>
        <p:spPr>
          <a:xfrm>
            <a:off x="2362320" y="2914560"/>
            <a:ext cx="3504960" cy="371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62320" y="144792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baciano e poi si sposano…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343400"/>
            <a:ext cx="304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vanno tutti e due a vivere nel castello del principe per sposarsi… e poi vivono felici e contenti”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0" y="5024520"/>
            <a:ext cx="670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iediamo ai bambini quale sia il personaggio più importante della storia che hanno inventato collettivamente; la loro risposta è “il drago”. Proponiamo, quindi, loro di disegnarlo osservando un model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EGNIAMO IL DR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DSCF0184bis" descr=""/>
          <p:cNvPicPr/>
          <p:nvPr/>
        </p:nvPicPr>
        <p:blipFill>
          <a:blip r:embed="rId1"/>
          <a:srcRect l="0" t="10854" r="0" b="0"/>
          <a:stretch/>
        </p:blipFill>
        <p:spPr>
          <a:xfrm>
            <a:off x="2362320" y="609480"/>
            <a:ext cx="6553080" cy="438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62320" y="5748480"/>
            <a:ext cx="2514600" cy="111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sserva 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gni de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martino" descr=""/>
          <p:cNvPicPr/>
          <p:nvPr/>
        </p:nvPicPr>
        <p:blipFill>
          <a:blip r:embed="rId3"/>
          <a:stretch/>
        </p:blipFill>
        <p:spPr>
          <a:xfrm>
            <a:off x="3657600" y="5818320"/>
            <a:ext cx="1057320" cy="75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57880" y="22860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11250" t="0" r="0" b="15973"/>
          <a:stretch/>
        </p:blipFill>
        <p:spPr>
          <a:xfrm>
            <a:off x="2362320" y="3271680"/>
            <a:ext cx="4730760" cy="335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765000"/>
            <a:ext cx="1993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si attacca sul disegno con la coll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iuse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4292640"/>
            <a:ext cx="1606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ci vuole ancora colla e la sabbia sop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ian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3379680"/>
            <a:ext cx="1822320" cy="138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la convers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88000" y="228600"/>
            <a:ext cx="4127400" cy="309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298680"/>
            <a:ext cx="4441680" cy="333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320" y="765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o ho colorato il ciel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Batr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1700280"/>
            <a:ext cx="226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il castello è finit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it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114800"/>
            <a:ext cx="809640" cy="53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62320" y="2486160"/>
            <a:ext cx="228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ventiamo tutti insie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a storia per questo cast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4869000"/>
            <a:ext cx="1822320" cy="138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il testo definitivo della s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7561440" y="5638680"/>
            <a:ext cx="87624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62320" y="228600"/>
            <a:ext cx="655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rammatizziamo la storia de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CASTELLO DEL DR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rago33" descr=""/>
          <p:cNvPicPr/>
          <p:nvPr/>
        </p:nvPicPr>
        <p:blipFill>
          <a:blip r:embed="rId3"/>
          <a:srcRect l="0" t="2324" r="0" b="0"/>
          <a:stretch/>
        </p:blipFill>
        <p:spPr>
          <a:xfrm>
            <a:off x="2362320" y="914400"/>
            <a:ext cx="655308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579132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sentiamo ai bambini una grande maschera da dra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drago34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7920" y="5272200"/>
            <a:ext cx="66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utti fingono subito di avere paura, ma dopo poco la vogliono toccare e indoss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drago39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776840" cy="6369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391520" y="762120"/>
            <a:ext cx="1523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 giocare alla storia del castello del drago, per prima cosa serve un bambino coraggioso che si vesta da drago: Gianluc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drago35" descr=""/>
          <p:cNvPicPr/>
          <p:nvPr/>
        </p:nvPicPr>
        <p:blipFill>
          <a:blip r:embed="rId3"/>
          <a:stretch/>
        </p:blipFill>
        <p:spPr>
          <a:xfrm>
            <a:off x="5372280" y="228600"/>
            <a:ext cx="3543120" cy="4724280"/>
          </a:xfrm>
          <a:prstGeom prst="rect">
            <a:avLst/>
          </a:prstGeom>
          <a:ln w="0">
            <a:noFill/>
          </a:ln>
        </p:spPr>
      </p:pic>
      <p:pic>
        <p:nvPicPr>
          <p:cNvPr id="98" name="drago36" descr=""/>
          <p:cNvPicPr/>
          <p:nvPr/>
        </p:nvPicPr>
        <p:blipFill>
          <a:blip r:embed="rId4"/>
          <a:stretch/>
        </p:blipFill>
        <p:spPr>
          <a:xfrm>
            <a:off x="2362320" y="2209680"/>
            <a:ext cx="3290760" cy="4388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1066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 re e una regin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drago37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776840" cy="6369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5200" y="2049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principess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drago47" descr=""/>
          <p:cNvPicPr/>
          <p:nvPr/>
        </p:nvPicPr>
        <p:blipFill>
          <a:blip r:embed="rId3"/>
          <a:srcRect l="13332" t="16416" r="10668" b="0"/>
          <a:stretch/>
        </p:blipFill>
        <p:spPr>
          <a:xfrm>
            <a:off x="2362320" y="228600"/>
            <a:ext cx="4343400" cy="6369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86600" y="20494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 soldato che fa la guardia sul tetto del castell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6-30T15:04:35Z</dcterms:modified>
  <cp:revision>24</cp:revision>
  <dc:subject/>
  <dc:title>Presentazione di PowerPoint</dc:title>
</cp:coreProperties>
</file>