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hyperlink" Target="file:///mouck.ppt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68360" y="4975200"/>
            <a:ext cx="67201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sservando le diapositive e le immagini del deserto scopriamo che i suoi colori sono tanti: sono i colori della sabbia,  del cielo e delle palme, che variano a  seconda della luce del sole e dei diversi momenti della giorn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epariamo i “colori del deserto” che ci occorrono per dipingere gli scenari per la drammatizzazione del piccolo Mou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063" t="13581" r="7597" b="-3717"/>
          <a:stretch/>
        </p:blipFill>
        <p:spPr>
          <a:xfrm>
            <a:off x="5003640" y="2657520"/>
            <a:ext cx="208944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27280" y="2925720"/>
            <a:ext cx="2397240" cy="179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16360" y="85572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COLORI DEL DES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1130400"/>
            <a:ext cx="2038320" cy="1798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L’arte non riproduce ciò che è visibile, ma rende visibile ciò che non lo è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aul Kl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362320" y="1289160"/>
            <a:ext cx="2714400" cy="203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804000" y="287172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03640" y="3481560"/>
            <a:ext cx="4199040" cy="3147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2570040" cy="342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834080" y="584280"/>
            <a:ext cx="40813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74920" y="76500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 PANNELLI  IN S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90680" y="5359320"/>
            <a:ext cx="67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  bambini hanno  sovrapposto  al  loro  dipinto  il  ricalco  su  lucido del cammello  di  P. Kl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17080" y="6324480"/>
            <a:ext cx="6076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2622" r="0" b="0"/>
          <a:stretch/>
        </p:blipFill>
        <p:spPr>
          <a:xfrm>
            <a:off x="2362320" y="228600"/>
            <a:ext cx="6553080" cy="478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9240" y="5356080"/>
            <a:ext cx="66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i vuole l’arancione scuro e chiaro e poi anche il giallo e il marrone”.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iuse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3243240"/>
            <a:ext cx="4514760" cy="338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43280" y="228600"/>
            <a:ext cx="4272120" cy="3203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2320" y="863640"/>
            <a:ext cx="2138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o ci facevo il cielo con l’azzurr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Batr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4324320"/>
            <a:ext cx="19670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ci voleva la carta strappata marrone e verd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Vit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946400" cy="3710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51640" y="228600"/>
            <a:ext cx="1463760" cy="371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ggi la convers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740720" y="2276640"/>
            <a:ext cx="876240" cy="58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78080" y="4365720"/>
            <a:ext cx="67197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erchiamo in sezione oggetti e materiali dei colori utilizzati per dipingere gli scenari della storia del piccolo Mou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i sono dei colori che si assomigliano, che sono un po’ uguali e un po’ diversi: come questi arancioni”  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Vit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4960" y="808200"/>
            <a:ext cx="3551040" cy="180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COLORI DEL DESERTO NELL’ARTE DI PAUL KL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362320" y="808200"/>
            <a:ext cx="3192480" cy="415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92720" y="3184560"/>
            <a:ext cx="3622680" cy="245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38680" y="27511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l serraglio sfila in parata”, 19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05620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iardini del sud”, 19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563256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Il Niesen”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5932440"/>
            <a:ext cx="67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oponiamo  ai  bambini l’osservazione di  alcune  opere  di P. Klee (1879 – 19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62320" y="981000"/>
            <a:ext cx="32763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00680" y="228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nto arabo”, 19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1022400"/>
            <a:ext cx="2903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aul Klee amava la musica quanto la pittura. La sua opera “Canto arabo” ricorda una melodia del popolo del deserto.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a donna araba con il velo è inquadrata dai suoi abiti colorati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Gli occhi spuntano, con una espressione di allegra meraviglia, sopra il velo rosa. Il suo lungo sorriso finisce in una curva sul suo cuore.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ossiamo quasi sentire l’aria calda del deserto intorno al suo burnus largo a forma di sacco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vestito è fatto della stessa tela ruvida da imballaggio su cui il pittore ha dipinto il quadro. Anche i punti cuciti nel quadro assomigliano al rudimentale lavoro d’ago delle nomadi arabe che viaggiano nel deser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3406680" cy="2554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6680" y="3786120"/>
            <a:ext cx="26416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o disegno donna. Uso giallo…  arancione…  bella!”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i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3649" t="2038" r="4617" b="4197"/>
          <a:stretch/>
        </p:blipFill>
        <p:spPr>
          <a:xfrm>
            <a:off x="5602320" y="1197000"/>
            <a:ext cx="3313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835" t="0" r="9668" b="0"/>
          <a:stretch/>
        </p:blipFill>
        <p:spPr>
          <a:xfrm>
            <a:off x="6477120" y="2565360"/>
            <a:ext cx="243828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362320" y="961920"/>
            <a:ext cx="4100400" cy="498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623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erto”, 1914 e “Un altro cammello!”,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981000"/>
            <a:ext cx="225576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Quadri quadrati quattrini quadrettati quadretti riquadrati quattro quadri ben squadrat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inin Car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355284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4224" t="0" r="0" b="0"/>
          <a:stretch/>
        </p:blipFill>
        <p:spPr>
          <a:xfrm>
            <a:off x="2362320" y="228600"/>
            <a:ext cx="4392360" cy="34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386400" y="765000"/>
            <a:ext cx="2529000" cy="33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2T12:24:02Z</dcterms:modified>
  <cp:revision>18</cp:revision>
  <dc:subject/>
  <dc:title>Presentazione di PowerPoint</dc:title>
</cp:coreProperties>
</file>