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116000" y="954000"/>
            <a:ext cx="7559640" cy="54133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914400"/>
            <a:ext cx="7632720" cy="484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457200"/>
            <a:ext cx="7632720" cy="5800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632720" cy="6161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705800" cy="587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344600"/>
            <a:ext cx="7632720" cy="4349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16000" y="380880"/>
            <a:ext cx="7632720" cy="5780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87280" y="304920"/>
            <a:ext cx="7488360" cy="6129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76360" y="380880"/>
            <a:ext cx="6551640" cy="6094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4920" y="457200"/>
            <a:ext cx="6913440" cy="5962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533520"/>
            <a:ext cx="7632720" cy="5207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9920" y="457200"/>
            <a:ext cx="7346880" cy="5896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42920" y="380880"/>
            <a:ext cx="7705800" cy="5702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31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457200"/>
            <a:ext cx="7561440" cy="5775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192720" cy="604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457200"/>
            <a:ext cx="7632720" cy="5791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914400"/>
            <a:ext cx="7777080" cy="5035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33520"/>
            <a:ext cx="7632720" cy="5618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609480"/>
            <a:ext cx="7632720" cy="556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457200"/>
            <a:ext cx="7705800" cy="5819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7:33:01Z</dcterms:created>
  <dc:creator>User</dc:creator>
  <dc:description/>
  <dc:language>en-US</dc:language>
  <cp:lastModifiedBy>Utente</cp:lastModifiedBy>
  <dcterms:modified xsi:type="dcterms:W3CDTF">2007-07-01T07:08:23Z</dcterms:modified>
  <cp:revision>4</cp:revision>
  <dc:subject/>
  <dc:title>Diapositiva 1</dc:title>
</cp:coreProperties>
</file>