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8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9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0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1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2"/>
          </p:cNvPr>
          <p:cNvSpPr/>
          <p:nvPr/>
        </p:nvSpPr>
        <p:spPr>
          <a:xfrm>
            <a:off x="82440" y="3922560"/>
            <a:ext cx="1886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3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4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15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Wizard%20esportazione-1%20copia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276720" cy="441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62320" y="228600"/>
            <a:ext cx="655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 parole dell’ALB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892080"/>
            <a:ext cx="350496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ALB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UN PO’ VERDE   (Vitto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UN PO’ GIALLO (Al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UN PO’ MARRONE (Giusep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ALMA (Andre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INO (Ludovi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ALBERO DI NATALE (Vitto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FRUTTI  (Davide B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MELA (F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ERA (Ebenez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CILIEGIE (Ga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BANANE (Giusep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FOGLIE LUNGHE (Filipp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FOGLIE STRETTE (Marti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FOGLIE A PUNTA (Alessandr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FOGLIE ROTONDE (Gre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GAMBO  (Aless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RONCO (Andre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914400"/>
            <a:ext cx="304812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RUVIDO (Marti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LISCIO (Lu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OMBRA (Vitto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ERBA (Giusep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RATO (Davide B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INDIETRO" descr=""/>
          <p:cNvPicPr/>
          <p:nvPr/>
        </p:nvPicPr>
        <p:blipFill>
          <a:blip r:embed="rId2"/>
          <a:stretch/>
        </p:blipFill>
        <p:spPr>
          <a:xfrm>
            <a:off x="830736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ser</cp:lastModifiedBy>
  <dcterms:modified xsi:type="dcterms:W3CDTF">2007-06-21T09:27:01Z</dcterms:modified>
  <cp:revision>15</cp:revision>
  <dc:subject/>
  <dc:title>Presentazione di PowerPoint</dc:title>
</cp:coreProperties>
</file>