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29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11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12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14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15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16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Rectangle 17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Rectangle 18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Rectangle 19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Rectangle 20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Rectangle 21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Rectangle 22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Rectangle 23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Rectangle 24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Rectangle 25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Rectangle 27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Rectangle 28"/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e parole della SE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0" t="0" r="17414" b="5256"/>
          <a:stretch/>
        </p:blipFill>
        <p:spPr>
          <a:xfrm>
            <a:off x="2362320" y="685800"/>
            <a:ext cx="6553080" cy="5638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2514600" y="838080"/>
            <a:ext cx="403848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E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TRAMONTO (Ga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BUIO (Martino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LUNA (Ga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VIOLA (Vittor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TELLE (Filippo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DORMIRE (Vittor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OGNARE (Al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ERO (Ga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BLU (Giuseppe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MOSTRO (Davide Be.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CORPIONE (Ebenezer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ERPENTE (Mohame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MAMMA (Flav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APA’ (Andre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SORELLE (Vittor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ASCONDERSI DIETRO LA MAMMA (Ga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769788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9460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ostruiamo il libro delle parole della sera e lo leggiamo agli amic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0" t="9940" r="0" b="0"/>
          <a:stretch/>
        </p:blipFill>
        <p:spPr>
          <a:xfrm>
            <a:off x="4572000" y="685800"/>
            <a:ext cx="4343400" cy="29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16668" t="15558" r="0" b="0"/>
          <a:stretch/>
        </p:blipFill>
        <p:spPr>
          <a:xfrm>
            <a:off x="2362320" y="3676680"/>
            <a:ext cx="3886200" cy="2952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553080" y="434340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Talvolta la lettura del libro diventa occasione di una narrazione persona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8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l libro delle parole della SE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Susanna Stanzani</cp:lastModifiedBy>
  <dcterms:modified xsi:type="dcterms:W3CDTF">2022-07-14T07:18:48Z</dcterms:modified>
  <cp:revision>16</cp:revision>
  <dc:subject/>
  <dc:title>Presentazione di PowerPoint</dc:title>
</cp:coreProperties>
</file>