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8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9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0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1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2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3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4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5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6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7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18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05080" y="5765760"/>
            <a:ext cx="670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n effetti, la lettura dell’incipit della “Storia del piccolo Mouck” lascia aperte molte possibilità; chiediamo, dunque, aiuto alle famiglie e, dopo qualche giorno, alcuni bambini arrivano con le rispo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5105520"/>
            <a:ext cx="67057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 parola “vagabondo” non è completamente sconosciuta ai bambini: l’hanno già incontrata in un cartone animato (“Lilli e il Vagabondo”) e associata ad un personaggio (un cane) come nome propri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i è un VAGABON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12402" r="0" b="10079"/>
          <a:stretch/>
        </p:blipFill>
        <p:spPr>
          <a:xfrm>
            <a:off x="2362320" y="609480"/>
            <a:ext cx="6553080" cy="4496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69788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286000" y="304920"/>
          <a:ext cx="6705720" cy="5516280"/>
        </p:xfrm>
        <a:graphic>
          <a:graphicData uri="http://schemas.openxmlformats.org/drawingml/2006/table">
            <a:tbl>
              <a:tblPr/>
              <a:tblGrid>
                <a:gridCol w="990720"/>
                <a:gridCol w="5715000"/>
              </a:tblGrid>
              <a:tr h="6242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egnan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Leggo l’incipit del racconto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i può essere Mouck? Qui ci dice soltanto che è un piccolo vagabondo…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hi è un vagabondo? Lo avete chiesto a mamma e papà?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ttori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agabondo… ce l’ho chiesto: vuol dire che è uno che va in giro dappertutto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iusep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 mamma ha detto che è uno che va via di casa e gira dappertutto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mmas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o ho la cassetta di “Lilly e il Vagabondo”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rti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l papà ha detto che credeva il film di “Lilly e il Vagabondo”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udovic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 mamma ha detto che il piccolo vagabondo è Lilly. Era Lilly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uc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, Lilly è la femmina. Il vagabondo è il maschio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re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n è un cane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egnan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rea dice che il piccolo vagabondo della nostra storia non è un cane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re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 cani non vanno sugli alberi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egnan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ià, la volta scorsa abbiamo detto anche questo, ma allora chi sarà questo Mouck?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rti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… chissà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egnan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condo me bisogna leggerla ancora e ascoltare bene le parole. Fate attenzione…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Rileggo la storia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dre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uck si è perso nel deserto.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egnan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sa vuole dire che si è perso?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ttoria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he non trova più la sua mamma e il suo papà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iusep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 è perso dove c’è tanta sabbia, tanta sabbia…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rti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uck era piccolo: se era grande non aveva paura.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egnan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llora chi era Mouck?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rtin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ra un piccolo vagabondo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iusepp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080" bIns="1908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ra un bimbo che si è perso nel deserto dove c’è tutto sabbia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362320" y="5943600"/>
            <a:ext cx="2438280" cy="77004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53966" dir="189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LEGGI L’INTERA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CONVERS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54520" y="6026040"/>
            <a:ext cx="708120" cy="4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7-05T04:47:39Z</dcterms:modified>
  <cp:revision>18</cp:revision>
  <dc:subject/>
  <dc:title>Presentazione di PowerPoint</dc:title>
</cp:coreProperties>
</file>