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hyperlink" Target="file:///mouck.ppt" TargetMode="External"/><Relationship Id="rId17" Type="http://schemas.openxmlformats.org/officeDocument/2006/relationships/hyperlink" Target="file:///mouck.ppt" TargetMode="External"/><Relationship Id="rId18" Type="http://schemas.openxmlformats.org/officeDocument/2006/relationships/hyperlink" Target="file:///mouck.ppt" TargetMode="External"/><Relationship Id="rId19" Type="http://schemas.openxmlformats.org/officeDocument/2006/relationships/hyperlink" Target="file:///mouck.ppt" TargetMode="External"/><Relationship Id="rId20" Type="http://schemas.openxmlformats.org/officeDocument/2006/relationships/hyperlink" Target="file:///mouck.ppt" TargetMode="External"/><Relationship Id="rId21" Type="http://schemas.openxmlformats.org/officeDocument/2006/relationships/slideLayout" Target="../slideLayouts/slideLayout1.xml"/><Relationship Id="rId22" Type="http://schemas.openxmlformats.org/officeDocument/2006/relationships/slideLayout" Target="../slideLayouts/slideLayout2.xml"/><Relationship Id="rId23" Type="http://schemas.openxmlformats.org/officeDocument/2006/relationships/slideLayout" Target="../slideLayouts/slideLayout3.xml"/><Relationship Id="rId24" Type="http://schemas.openxmlformats.org/officeDocument/2006/relationships/slideLayout" Target="../slideLayouts/slideLayout4.xml"/><Relationship Id="rId25" Type="http://schemas.openxmlformats.org/officeDocument/2006/relationships/slideLayout" Target="../slideLayouts/slideLayout5.xml"/><Relationship Id="rId26" Type="http://schemas.openxmlformats.org/officeDocument/2006/relationships/slideLayout" Target="../slideLayouts/slideLayout6.xml"/><Relationship Id="rId27" Type="http://schemas.openxmlformats.org/officeDocument/2006/relationships/slideLayout" Target="../slideLayouts/slideLayout7.xml"/><Relationship Id="rId28" Type="http://schemas.openxmlformats.org/officeDocument/2006/relationships/slideLayout" Target="../slideLayouts/slideLayout8.xml"/><Relationship Id="rId29" Type="http://schemas.openxmlformats.org/officeDocument/2006/relationships/slideLayout" Target="../slideLayouts/slideLayout9.xml"/><Relationship Id="rId30" Type="http://schemas.openxmlformats.org/officeDocument/2006/relationships/slideLayout" Target="../slideLayouts/slideLayout10.xml"/><Relationship Id="rId31" Type="http://schemas.openxmlformats.org/officeDocument/2006/relationships/slideLayout" Target="../slideLayouts/slideLayout11.xml"/><Relationship Id="rId3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8"/>
          </p:cNvPr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9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10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1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2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3"/>
          </p:cNvPr>
          <p:cNvSpPr/>
          <p:nvPr/>
        </p:nvSpPr>
        <p:spPr>
          <a:xfrm>
            <a:off x="108000" y="390384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4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15"/>
          </p:cNvPr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16"/>
          </p:cNvPr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rId17"/>
          </p:cNvPr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18"/>
          </p:cNvPr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9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20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1"/>
    <p:sldLayoutId id="2147483650" r:id="rId22"/>
    <p:sldLayoutId id="2147483651" r:id="rId23"/>
    <p:sldLayoutId id="2147483652" r:id="rId24"/>
    <p:sldLayoutId id="2147483653" r:id="rId25"/>
    <p:sldLayoutId id="2147483654" r:id="rId26"/>
    <p:sldLayoutId id="2147483655" r:id="rId27"/>
    <p:sldLayoutId id="2147483656" r:id="rId28"/>
    <p:sldLayoutId id="2147483657" r:id="rId29"/>
    <p:sldLayoutId id="2147483658" r:id="rId30"/>
    <p:sldLayoutId id="2147483659" r:id="rId31"/>
    <p:sldLayoutId id="2147483660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62320" y="228600"/>
            <a:ext cx="655308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l pupaz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0" y="914400"/>
            <a:ext cx="671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Realizziamo un pupazzo grande e morbido del piccolo Mouck, affinché diventi un personaggio reale, da toccare, abbracciare, coccolare e consolare, capace di rispecchiare le emozioni dei bambi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362320" y="2124000"/>
            <a:ext cx="65530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205240" y="228600"/>
            <a:ext cx="3710160" cy="4267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362320" y="37720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314440" y="668160"/>
            <a:ext cx="27147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Io ci metto dentro il cotone nella pancia!”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 Mart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Io faccio la testa”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 Bato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77040" y="5121360"/>
            <a:ext cx="26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po ci vogliono gli occhi e la bocca”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Fulv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mouck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111560" cy="6400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0" y="762120"/>
            <a:ext cx="20574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uciamo i capelli al pupazzo e dipingiamo i particolari del vis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il piccolo Mouck ha ora anche un vol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DSCF0413bis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72" name="DSCF0410bis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391520" y="982800"/>
            <a:ext cx="13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sieme ai bambini lo vestiamo “come gli uomini del deserto”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419112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… “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li mettiamo il velo in testa e anche il mantello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”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leopa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DSCF0414bis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719600" cy="4952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30736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162920" y="144792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Adesso ha tutto. Si può prendere anche in braccio”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a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562720"/>
            <a:ext cx="670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Il piccolo Mouck è pronto: può iniziare a raccontare le sue storie e le sue avvent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ser</cp:lastModifiedBy>
  <dcterms:modified xsi:type="dcterms:W3CDTF">2007-06-21T09:59:24Z</dcterms:modified>
  <cp:revision>17</cp:revision>
  <dc:subject/>
  <dc:title>Presentazione di PowerPoint</dc:title>
</cp:coreProperties>
</file>