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hyperlink" Target="file:///mouck.ppt" TargetMode="External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3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20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image" Target="../media/image6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 SUONI E I RUMORI DEL DESE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0" t="4748" r="0" b="0"/>
          <a:stretch/>
        </p:blipFill>
        <p:spPr>
          <a:xfrm>
            <a:off x="2362320" y="69228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60440" y="556272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iproduciamo i rumori del deserto con la voce o attraverso il suono di oggetti e materiali recuperati in sezione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325600" y="228600"/>
            <a:ext cx="6553440" cy="9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ENTO  LEGGER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1413000"/>
            <a:ext cx="2759040" cy="1817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colta il rumore del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ento leggero del dese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315200" y="234936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rcRect l="7011" t="0" r="0" b="0"/>
          <a:stretch/>
        </p:blipFill>
        <p:spPr>
          <a:xfrm>
            <a:off x="2362320" y="1413000"/>
            <a:ext cx="3616200" cy="518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56360" y="4005360"/>
            <a:ext cx="275904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 fare il vento leggero non ci vogliono tanti bimbi, altrimenti diventa grande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i vuole solo un bimbo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oi bisogna soffiare solo poc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rt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62320" y="3178080"/>
            <a:ext cx="4601880" cy="3451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374920" y="301680"/>
            <a:ext cx="3276720" cy="11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ENTO  FORT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291360" y="228600"/>
            <a:ext cx="2624040" cy="3560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362320" y="1874880"/>
            <a:ext cx="35049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Nel deserto il vento soffia forte. La sabbia vola negli occhi. Bisogna coprirsi bene col vel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F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3911760"/>
            <a:ext cx="1822320" cy="2262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colta il rumore del vento forte del dese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7667640" y="5229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374920" y="228600"/>
            <a:ext cx="349236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ABBIA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2362320" y="3157560"/>
            <a:ext cx="4586040" cy="3440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093080" y="3170160"/>
            <a:ext cx="1822320" cy="2864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colta il rumore della sabbia mossa dal v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7667640" y="494172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84720" y="360360"/>
            <a:ext cx="28306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uando il vento soffia forte, la sabbia vola vi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44600" y="1628640"/>
            <a:ext cx="6720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o fatto rumore. Ho preso la sabbia così, poi fatta cadere giù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eopa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2232000"/>
            <a:ext cx="6720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uando la sabbia cade giù fa tic tic tic, come tanti sassolini. E’ il vento forte che la fa volare perché la soffia su in ciel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ianlu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374920" y="287280"/>
            <a:ext cx="645624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PASSI DI MOU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189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rcRect l="0" t="0" r="9889" b="0"/>
          <a:stretch/>
        </p:blipFill>
        <p:spPr>
          <a:xfrm>
            <a:off x="2362320" y="2779560"/>
            <a:ext cx="4586040" cy="3818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093080" y="2781360"/>
            <a:ext cx="1822320" cy="3077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scolta il rumore dei passi del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iccolo Mouck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ulla sab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667640" y="4653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78080" y="1844640"/>
            <a:ext cx="67197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o facevo il rumore coi bicchieri sulla sabbia. Li picchiavo giù, sopra la sabbia. Faceva rumore… di sabbi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ilip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948360" y="4797360"/>
            <a:ext cx="1967040" cy="1526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colta il rumore dei passi del camm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374920" y="263520"/>
            <a:ext cx="64389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PASSI DEL CAMMELL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07932" dir="189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362320" y="2468520"/>
            <a:ext cx="4586040" cy="4129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711920" y="5497560"/>
            <a:ext cx="648000" cy="64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66920" y="1484280"/>
            <a:ext cx="4392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l cammello fa i passi più grossi di Mouck, ci vuole qualcosa di pesa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Davide B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605640" y="1268280"/>
            <a:ext cx="230976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0904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362320" y="301680"/>
            <a:ext cx="306072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LUP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07932" dir="189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362320" y="2228760"/>
            <a:ext cx="4514760" cy="436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012000" y="228600"/>
            <a:ext cx="2903400" cy="2063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093080" y="2781360"/>
            <a:ext cx="1822320" cy="265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colta l’ulula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i lu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740720" y="4292640"/>
            <a:ext cx="64764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51640" y="790560"/>
            <a:ext cx="3263760" cy="1866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362320" y="287280"/>
            <a:ext cx="32097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SERPENT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07932" dir="189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0" t="6023" r="0" b="0"/>
          <a:stretch/>
        </p:blipFill>
        <p:spPr>
          <a:xfrm>
            <a:off x="2362320" y="2646360"/>
            <a:ext cx="4586040" cy="3951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093080" y="2781360"/>
            <a:ext cx="1822320" cy="2975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colta il sibil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i serp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705800" y="45086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362320" y="1557360"/>
            <a:ext cx="32893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l rumore dei serpenti lo abbiamo fatto con la bocca, poi tu lo hai messo nel computer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udov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828504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tente</cp:lastModifiedBy>
  <dcterms:modified xsi:type="dcterms:W3CDTF">2007-06-30T15:02:37Z</dcterms:modified>
  <cp:revision>21</cp:revision>
  <dc:subject/>
  <dc:title>Presentazione di PowerPoint</dc:title>
</cp:coreProperties>
</file>