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hyperlink" Target="file:///mouck.ppt" TargetMode="External"/><Relationship Id="rId17" Type="http://schemas.openxmlformats.org/officeDocument/2006/relationships/hyperlink" Target="file:///mouck.ppt" TargetMode="External"/><Relationship Id="rId18" Type="http://schemas.openxmlformats.org/officeDocument/2006/relationships/hyperlink" Target="file:///mouck.ppt" TargetMode="External"/><Relationship Id="rId19" Type="http://schemas.openxmlformats.org/officeDocument/2006/relationships/hyperlink" Target="file:///mouck.ppt" TargetMode="External"/><Relationship Id="rId20" Type="http://schemas.openxmlformats.org/officeDocument/2006/relationships/hyperlink" Target="file:///mouck.ppt" TargetMode="External"/><Relationship Id="rId21" Type="http://schemas.openxmlformats.org/officeDocument/2006/relationships/slideLayout" Target="../slideLayouts/slideLayout1.xml"/><Relationship Id="rId22" Type="http://schemas.openxmlformats.org/officeDocument/2006/relationships/slideLayout" Target="../slideLayouts/slideLayout2.xml"/><Relationship Id="rId23" Type="http://schemas.openxmlformats.org/officeDocument/2006/relationships/slideLayout" Target="../slideLayouts/slideLayout3.xml"/><Relationship Id="rId24" Type="http://schemas.openxmlformats.org/officeDocument/2006/relationships/slideLayout" Target="../slideLayouts/slideLayout4.xml"/><Relationship Id="rId25" Type="http://schemas.openxmlformats.org/officeDocument/2006/relationships/slideLayout" Target="../slideLayouts/slideLayout5.xml"/><Relationship Id="rId26" Type="http://schemas.openxmlformats.org/officeDocument/2006/relationships/slideLayout" Target="../slideLayouts/slideLayout6.xml"/><Relationship Id="rId27" Type="http://schemas.openxmlformats.org/officeDocument/2006/relationships/slideLayout" Target="../slideLayouts/slideLayout7.xml"/><Relationship Id="rId28" Type="http://schemas.openxmlformats.org/officeDocument/2006/relationships/slideLayout" Target="../slideLayouts/slideLayout8.xml"/><Relationship Id="rId29" Type="http://schemas.openxmlformats.org/officeDocument/2006/relationships/slideLayout" Target="../slideLayouts/slideLayout9.xml"/><Relationship Id="rId30" Type="http://schemas.openxmlformats.org/officeDocument/2006/relationships/slideLayout" Target="../slideLayouts/slideLayout10.xml"/><Relationship Id="rId31" Type="http://schemas.openxmlformats.org/officeDocument/2006/relationships/slideLayout" Target="../slideLayouts/slideLayout11.xml"/><Relationship Id="rId3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8"/>
          </p:cNvPr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9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10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1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2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3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4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15"/>
          </p:cNvPr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16"/>
          </p:cNvPr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17"/>
          </p:cNvPr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18"/>
          </p:cNvPr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9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20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1"/>
    <p:sldLayoutId id="2147483650" r:id="rId22"/>
    <p:sldLayoutId id="2147483651" r:id="rId23"/>
    <p:sldLayoutId id="2147483652" r:id="rId24"/>
    <p:sldLayoutId id="2147483653" r:id="rId25"/>
    <p:sldLayoutId id="2147483654" r:id="rId26"/>
    <p:sldLayoutId id="2147483655" r:id="rId27"/>
    <p:sldLayoutId id="2147483656" r:id="rId28"/>
    <p:sldLayoutId id="2147483657" r:id="rId29"/>
    <p:sldLayoutId id="2147483658" r:id="rId30"/>
    <p:sldLayoutId id="2147483659" r:id="rId31"/>
    <p:sldLayoutId id="2147483660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28600"/>
            <a:ext cx="655308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ouck racconta le sue st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3485880" cy="464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0" y="83808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l passare del tempo, il piccolo Mouck diventa un amico che sussurra all’orecchio delle tate e dei bambini le sue avven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2212920"/>
            <a:ext cx="2666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e storie del piccolo Mouck sono racconti di viaggio o di vita quotidiana che hanno lo scopo di sollecitare la narrazione o l’autonarrazione dei bambi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4086720"/>
            <a:ext cx="2743200" cy="2012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eggi un racconto del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iccolo Mo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86600" y="5149800"/>
            <a:ext cx="876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697880" y="6324480"/>
            <a:ext cx="60804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800600" cy="640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467480" y="4343400"/>
            <a:ext cx="1600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a casetta del piccolo Mouck è anche uno spazio per il gioco di ruolo coi travestim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317080" y="6324480"/>
            <a:ext cx="6076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92480" y="5334120"/>
            <a:ext cx="67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ouck è morbido e fa tante coccole ai bambini. A me fa le coccole al mattino, quando  sono  ancora  stanco”.           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92480" y="5257800"/>
            <a:ext cx="67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Quella volta lì, Mouck mi ha raccontato di quando si era perso.”  </a:t>
            </a: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5607000"/>
            <a:ext cx="3124080" cy="122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ggi la convers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505320" y="6095880"/>
            <a:ext cx="7999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6553080" cy="491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5257800"/>
            <a:ext cx="6705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ouck mi diceva che mi raccontava la storia. La storia del compleanno del piccolo Mouck. Diceva: ti sto raccontando una storia, una storia bella bell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0" y="5486400"/>
            <a:ext cx="6629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buttato la palla dentro a un lago ed è arrivato uno squalo che ha mangiato la pallla e la palla è scoppiata e poi sono andati a casa a mangiare la pappa e la storia è finit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Gianlu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971960" y="2286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152280"/>
            <a:ext cx="25909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piccolo Mouck mi raccontava che l’orso polare ha mangiato le foche e i pinguini e poi i pinguini hanno preso le spade e hanno tagliato le pance e la schiena agli orsi. Poi loro sono andati a casa e poi davanti alla porta c’era un piccolo gattino che aveva fame e poi l’hanno preso dentro e gli hanno dato la pappa e poi la loro casa si era rotta perché era venuta un temporale e il piccolo gattino si è spaventato ed è scoppiato a piangere e si è nascosto. Poi i pinguini e le foche lo hanno consolato e hanno ricostruito una casa e dentro alla casa hanno costruito una casetta più piccola coi giochi per il piccolo gattino e poi loro sono andati a giocare a pallone   e   poi  il gattino 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06520" y="5670720"/>
            <a:ext cx="6726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Dovevano entrare dentro a una porta, perché dietro alle porte, mi ha detto Mouck, c’erano dei posti magici e tutti sono andati in posti magici diversi e poi una sera si sono incontrati tutti in un posto bell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Mart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41760" y="228600"/>
            <a:ext cx="4373640" cy="5467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152280"/>
            <a:ext cx="22096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piccolo Mouck mi ha detto che aveva paura: un giorno col suo cammello è andato nel bosco e ha incontrato una volpe. Dietro alla volpe arrivavano delle frecce. Erano i cavalieri che le tiravavno perché volevano uccidere la volpe. Poi Mouck si è travestito da cavaliere e il cammello da cavallo e poi non potevano più andare perché c’era un drago grande così e allora tutti i cavalieri hanno combattuto contro il drago e hanno vinto i cavalieri. Poi i cavalieri se ne sono andati e il piccolo Mouck li ha inseguiti e alla fine sono andati dentro a un castello dove c’erano tre draghi e tre por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11943" b="0"/>
          <a:stretch/>
        </p:blipFill>
        <p:spPr>
          <a:xfrm>
            <a:off x="5543640" y="228600"/>
            <a:ext cx="3371760" cy="510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362320" y="2209680"/>
            <a:ext cx="33145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228600"/>
            <a:ext cx="655308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La casa di Mouck… la casa delle st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362320" y="685800"/>
            <a:ext cx="445752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38880" y="3429000"/>
            <a:ext cx="190512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lestiamo in sezione una tenda-casetta che diventa uno spazio per la conversazione con gli amici e per la narra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’  la casa delle stor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9960" y="6324480"/>
            <a:ext cx="5954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324480"/>
            <a:ext cx="60804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362320" y="228600"/>
            <a:ext cx="4457520" cy="594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62920" y="4572000"/>
            <a:ext cx="19047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i sono i cuscini per sedersi e poi c’è il piccolo Mouck che fa le coccole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ulv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51:51Z</dcterms:modified>
  <cp:revision>24</cp:revision>
  <dc:subject/>
  <dc:title>Presentazione di PowerPoint</dc:title>
</cp:coreProperties>
</file>