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hyperlink" Target="file:///mouck.ppt" TargetMode="External"/><Relationship Id="rId17" Type="http://schemas.openxmlformats.org/officeDocument/2006/relationships/slideLayout" Target="../slideLayouts/slideLayout1.xml"/><Relationship Id="rId18" Type="http://schemas.openxmlformats.org/officeDocument/2006/relationships/slideLayout" Target="../slideLayouts/slideLayout2.xml"/><Relationship Id="rId19" Type="http://schemas.openxmlformats.org/officeDocument/2006/relationships/slideLayout" Target="../slideLayouts/slideLayout3.xml"/><Relationship Id="rId20" Type="http://schemas.openxmlformats.org/officeDocument/2006/relationships/slideLayout" Target="../slideLayouts/slideLayout4.xml"/><Relationship Id="rId21" Type="http://schemas.openxmlformats.org/officeDocument/2006/relationships/slideLayout" Target="../slideLayouts/slideLayout5.xml"/><Relationship Id="rId22" Type="http://schemas.openxmlformats.org/officeDocument/2006/relationships/slideLayout" Target="../slideLayouts/slideLayout6.xml"/><Relationship Id="rId23" Type="http://schemas.openxmlformats.org/officeDocument/2006/relationships/slideLayout" Target="../slideLayouts/slideLayout7.xml"/><Relationship Id="rId24" Type="http://schemas.openxmlformats.org/officeDocument/2006/relationships/slideLayout" Target="../slideLayouts/slideLayout8.xml"/><Relationship Id="rId25" Type="http://schemas.openxmlformats.org/officeDocument/2006/relationships/slideLayout" Target="../slideLayouts/slideLayout9.xml"/><Relationship Id="rId26" Type="http://schemas.openxmlformats.org/officeDocument/2006/relationships/slideLayout" Target="../slideLayouts/slideLayout10.xml"/><Relationship Id="rId27" Type="http://schemas.openxmlformats.org/officeDocument/2006/relationships/slideLayout" Target="../slideLayouts/slideLayout11.xml"/><Relationship Id="rId2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8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9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10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11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12"/>
          </p:cNvPr>
          <p:cNvSpPr/>
          <p:nvPr/>
        </p:nvSpPr>
        <p:spPr>
          <a:xfrm>
            <a:off x="108000" y="3903840"/>
            <a:ext cx="188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3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14"/>
          </p:cNvPr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15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>
            <a:hlinkClick r:id="rId16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"/>
    <p:sldLayoutId id="2147483650" r:id="rId18"/>
    <p:sldLayoutId id="2147483651" r:id="rId19"/>
    <p:sldLayoutId id="2147483652" r:id="rId20"/>
    <p:sldLayoutId id="2147483653" r:id="rId21"/>
    <p:sldLayoutId id="2147483654" r:id="rId22"/>
    <p:sldLayoutId id="2147483655" r:id="rId23"/>
    <p:sldLayoutId id="2147483656" r:id="rId24"/>
    <p:sldLayoutId id="2147483657" r:id="rId25"/>
    <p:sldLayoutId id="2147483658" r:id="rId26"/>
    <p:sldLayoutId id="2147483659" r:id="rId27"/>
    <p:sldLayoutId id="2147483660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0" y="3117960"/>
            <a:ext cx="67294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ma della fia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uck è un fanciullo arabo, dalle misteriose origini. È un vagabondo. S’è perduto nel deserto. S’arrampica sugli alberi per dormire, ed evitare l’aggressione dei lupi e d’un serpente. Al suo risveglio, scende dall’albero e s’avvia tra le dune, fin quando non scorge un palazzo bellissimo. Si precipita all’uscio, bussa; apre una dam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dama è sorridente, ma muta atteggiamento non appena il piccolo è entrato nel palazzo; subito, infatti, gli ordina di battere i semi per gli uccelli della sua voliera.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uck obbedisce; lei va a prendere uno dei suoi volatili, lo porta nella sua camera e ordina al suo nuovo servo di farlo cantare. Il piccolo vagabondo riesce nell’impresa; quindi, dopo aver riportato l’uccello nella voliera, assieme ai suoi simili, scopre fortunosamente ch’egli e i suoi compagni sono principi, imprigionat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INDIETRO" descr=""/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0" y="762120"/>
            <a:ext cx="4419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uis-Ferdinand Destouches, detto Céline, scrisse la 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“Storia del piccolo Mouck”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el 1923, quando era uno studente in medicina di ventinove anni e giovane padre di famigl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entò la fiaba per divertire, far sognare ed educare la figlioletta Colette, insieme a sua moglie  Édith che ne curò le illustra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 era ancora un famoso scrittore: il suo primo e più famoso romanzo, “Viaggio al termine della notte” (1932) è di quasi dieci anni dop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228600"/>
            <a:ext cx="6553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’AU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celine_b" descr=""/>
          <p:cNvPicPr/>
          <p:nvPr/>
        </p:nvPicPr>
        <p:blipFill>
          <a:blip r:embed="rId3"/>
          <a:stretch/>
        </p:blipFill>
        <p:spPr>
          <a:xfrm>
            <a:off x="2362320" y="7621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NDIETRO" descr=""/>
          <p:cNvPicPr/>
          <p:nvPr/>
        </p:nvPicPr>
        <p:blipFill>
          <a:blip r:embed="rId1"/>
          <a:stretch/>
        </p:blipFill>
        <p:spPr>
          <a:xfrm>
            <a:off x="830736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0" y="619200"/>
            <a:ext cx="6770520" cy="35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così, quando la dama – indossate babbucce rosse e bacchetta nera – vola via, diretta a una destinazione imprecisata, Mouck libera il principe, e – dopo aver sottratto alla padrona, appena tornata, babbucce e bacchetta – fugge via, assieme a lui. Raggiungono la sua casa, dove vengono accolti dai genitori, increduli; suo padre, il Re, parte per catturare la dama; la trasforma, grazie alla bacchetta, in un pipistrello e in questa forma la presenta ai due bambin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uck rimane a vivere, per qualche tempo, col suo nuovo amico; ma è triste, d’una tristezza misteriosa e inconsolabile. Soltanto viaggiare mitiga la sua malinconia. Indossa le babbucce, e arriva a un castello, arrampicandosi su una lunga scala rossa. Incontra un gigante che, giudicando la tua testolina un guscio vuoto, decide di nominarlo Gran Visi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ando il vagabondo chiederà d’andarsene, riceverà tre sassolini – ad ognuno d’essi, corrisponderà un genio. Il primo genio l’accompagna in un viaggio sul mare. Signore d’un isolotto di 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munculi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rimane tra loro fin quando non viene rapito dal canto delle siren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User</cp:lastModifiedBy>
  <dcterms:modified xsi:type="dcterms:W3CDTF">2007-06-21T10:05:54Z</dcterms:modified>
  <cp:revision>15</cp:revision>
  <dc:subject/>
  <dc:title>Presentazione di PowerPoint</dc:title>
</cp:coreProperties>
</file>