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84240" y="3917880"/>
            <a:ext cx="1885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mouck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28600"/>
            <a:ext cx="655308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l compleanno del piccolo Mou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INDIETR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78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DSCF0591bis" descr=""/>
          <p:cNvPicPr/>
          <p:nvPr/>
        </p:nvPicPr>
        <p:blipFill>
          <a:blip r:embed="rId4"/>
          <a:stretch/>
        </p:blipFill>
        <p:spPr>
          <a:xfrm>
            <a:off x="2362320" y="60948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0" y="563868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ggi è un giorno davvero speciale: festeggiamo il compleanno del piccolo Mou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Copia%20di%20DSCF0589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526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2320" y="57150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l compleanno, nel deserto, si festeggia in un modo molto diverso dal nostr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DSCF0593_2bis" descr=""/>
          <p:cNvPicPr/>
          <p:nvPr/>
        </p:nvPicPr>
        <p:blipFill>
          <a:blip r:embed="rId3"/>
          <a:stretch/>
        </p:blipFill>
        <p:spPr>
          <a:xfrm>
            <a:off x="4191120" y="22860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68" name="DSCF0594bis" descr=""/>
          <p:cNvPicPr/>
          <p:nvPr/>
        </p:nvPicPr>
        <p:blipFill>
          <a:blip r:embed="rId4"/>
          <a:stretch/>
        </p:blipFill>
        <p:spPr>
          <a:xfrm>
            <a:off x="2362320" y="3276720"/>
            <a:ext cx="2770200" cy="3352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0" y="380880"/>
            <a:ext cx="1828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n c’è la torta con le candeline, i regali e i palloncini, ma ci si siede sui tappeti, accanto alla tovaglia più preziosa, con al centro un bellissimo servizio da tè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449568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pariamo anche noi il tè alla menta, la bevanda preferita degli uomini del deser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DSCF0601bis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62320" y="556272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mangiamo i “pasticcini del deserto” preparati con mandorle e mie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SCF0603bis" descr=""/>
          <p:cNvPicPr/>
          <p:nvPr/>
        </p:nvPicPr>
        <p:blipFill>
          <a:blip r:embed="rId1"/>
          <a:srcRect l="0" t="27907" r="0" b="0"/>
          <a:stretch/>
        </p:blipFill>
        <p:spPr>
          <a:xfrm>
            <a:off x="2362320" y="228600"/>
            <a:ext cx="6553080" cy="3543480"/>
          </a:xfrm>
          <a:prstGeom prst="rect">
            <a:avLst/>
          </a:prstGeom>
          <a:ln w="0">
            <a:noFill/>
          </a:ln>
        </p:spPr>
      </p:pic>
      <p:pic>
        <p:nvPicPr>
          <p:cNvPr id="76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44197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nusiamo il profumo delle foglioline di menta fresca, poi beviamo il tè e assaggiamo datteri e frutta sec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SCF0610bis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4210200"/>
          </a:xfrm>
          <a:prstGeom prst="rect">
            <a:avLst/>
          </a:prstGeom>
          <a:ln w="0">
            <a:noFill/>
          </a:ln>
        </p:spPr>
      </p:pic>
      <p:pic>
        <p:nvPicPr>
          <p:cNvPr id="80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502128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nche le tate fanno festa: hanno indossato gli abiti del deserto e si sono sedute sul tappeto per festeggiare il piccolo Mou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SCF0624bis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84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INDIETRO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5478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biamo ascoltato la musica del deserto e danzato tutti insie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SCF0627bis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354960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DSCF0629bis" descr=""/>
          <p:cNvPicPr/>
          <p:nvPr/>
        </p:nvPicPr>
        <p:blipFill>
          <a:blip r:embed="rId2"/>
          <a:stretch/>
        </p:blipFill>
        <p:spPr>
          <a:xfrm>
            <a:off x="5076720" y="2971800"/>
            <a:ext cx="3838680" cy="3311640"/>
          </a:xfrm>
          <a:prstGeom prst="rect">
            <a:avLst/>
          </a:prstGeom>
          <a:ln w="0">
            <a:noFill/>
          </a:ln>
        </p:spPr>
      </p:pic>
      <p:pic>
        <p:nvPicPr>
          <p:cNvPr id="89" name="INDIETRO" descr=""/>
          <p:cNvPicPr/>
          <p:nvPr/>
        </p:nvPicPr>
        <p:blipFill>
          <a:blip r:embed="rId3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09480"/>
            <a:ext cx="2895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Poi abbiamo portato il regalo al piccolo Mouck”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Tomm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343400"/>
            <a:ext cx="25905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ra una lettera con scritto Buon Compleanno e la foto di noi che facciamo un trenino”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32:19Z</dcterms:modified>
  <cp:revision>19</cp:revision>
  <dc:subject/>
  <dc:title>Presentazione di PowerPoint</dc:title>
</cp:coreProperties>
</file>