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7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8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19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 parole di chi si è PERD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666800"/>
            <a:ext cx="251460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ERD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RISTE 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(Davide B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MAMMA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APA’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Lu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OLO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(And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BUI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LUPI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Giuseppe, F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853920"/>
            <a:ext cx="670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 catena di parole composta dai bambini è fortemente incentrata sulla sensazione di paura che deve provare chi si perd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5865840"/>
            <a:ext cx="2438280" cy="76320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71785" dir="189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EGGI LA CONVERSAZION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NDIETRO" descr=""/>
          <p:cNvPicPr/>
          <p:nvPr/>
        </p:nvPicPr>
        <p:blipFill>
          <a:blip r:embed="rId1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AVANTI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8680" y="3809880"/>
            <a:ext cx="27432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ERPENTE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Gianluca, F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COCCODRILL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Al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QUALI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(Luc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ORPIONI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(Aless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ESCECANE 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(Giusep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STREGA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(Cleopat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68800" y="6130800"/>
            <a:ext cx="649080" cy="4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NDIETRO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0" y="228600"/>
            <a:ext cx="67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traverso la conversazione emergere il ricordo delle esperienze personali vissute dai bambini oppure nasce lo spunto per l’invenzione fantas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loud"/>
          <p:cNvSpPr/>
          <p:nvPr/>
        </p:nvSpPr>
        <p:spPr>
          <a:xfrm>
            <a:off x="3733920" y="1324080"/>
            <a:ext cx="2514600" cy="1650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un posto lontano lontano mi sono persa. Era una città lontana. C’era il vento, ho visto l’aereo e sono volata.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LAV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loud"/>
          <p:cNvSpPr/>
          <p:nvPr/>
        </p:nvSpPr>
        <p:spPr>
          <a:xfrm>
            <a:off x="6248520" y="990720"/>
            <a:ext cx="220968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volta siamo arrivati al Grandemilia e il papà mi correva dietro e io non l’ho più visto.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GIUSEP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 rot="21209400">
            <a:off x="2362320" y="3123720"/>
            <a:ext cx="2828880" cy="1749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00280" y="3425760"/>
            <a:ext cx="2133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volta non sapevo dov’erano il papà e la mamma, io giocavo con un altro bambino e non li vedevo. Loro erano dietro a una cosa per i vestiti.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 sono spaventato e ho aspettato lì poi sono venuti a prendermi.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ARTI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loud"/>
          <p:cNvSpPr/>
          <p:nvPr/>
        </p:nvSpPr>
        <p:spPr>
          <a:xfrm>
            <a:off x="5638680" y="2895480"/>
            <a:ext cx="2590920" cy="18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o ho paura delle maschere. Le maschere che sono alla Rotonda mi fanno paura. C’è anche una faccia di Teletubbies, ma non mi fa paura.</a:t>
            </a: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omic Sans MS"/>
              </a:rPr>
              <a:t>MATT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loud"/>
          <p:cNvSpPr/>
          <p:nvPr/>
        </p:nvSpPr>
        <p:spPr>
          <a:xfrm>
            <a:off x="3505320" y="4876920"/>
            <a:ext cx="2590560" cy="1600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o mi sono perso quando la mamma non c’era con me. Eravamo nella stanza dei mostri. Noi ci siamo entrati e l’abbiamo ucciso con la spada.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AVIDE B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tente</cp:lastModifiedBy>
  <dcterms:modified xsi:type="dcterms:W3CDTF">2007-07-05T05:11:34Z</dcterms:modified>
  <cp:revision>17</cp:revision>
  <dc:subject/>
  <dc:title>Presentazione di PowerPoint</dc:title>
</cp:coreProperties>
</file>