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7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8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9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INDIETRO" descr=""/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SANY0061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SANY0067BIS" descr=""/>
          <p:cNvPicPr/>
          <p:nvPr/>
        </p:nvPicPr>
        <p:blipFill>
          <a:blip r:embed="rId4"/>
          <a:srcRect l="15520" t="8047" r="8622" b="9197"/>
          <a:stretch/>
        </p:blipFill>
        <p:spPr>
          <a:xfrm>
            <a:off x="5257800" y="3332160"/>
            <a:ext cx="3657600" cy="299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228600"/>
            <a:ext cx="18288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Ero io. Facevo Mouck e camminavo nel deserto. Mi coprivo la faccia perché c’era il vento che mi gettava la sabbia negli occhi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191120"/>
            <a:ext cx="2666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Io e l’Alessia facevamo i lupi che vengono fuori dalla tana e spaventano Mouck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ANY0071" descr=""/>
          <p:cNvPicPr/>
          <p:nvPr/>
        </p:nvPicPr>
        <p:blipFill>
          <a:blip r:embed="rId1"/>
          <a:srcRect l="15568" t="15555" r="16676" b="16252"/>
          <a:stretch/>
        </p:blipFill>
        <p:spPr>
          <a:xfrm>
            <a:off x="2362320" y="228600"/>
            <a:ext cx="403848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SANY0066BIS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AVANTI2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INDIETRO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53080" y="762120"/>
            <a:ext cx="23623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o facevo il serpente del deserto che striscia nella sabbi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iuse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038480"/>
            <a:ext cx="22096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ouck ha paura si nasconde sotto l’albero e trema tutt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less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51080" y="5853240"/>
            <a:ext cx="67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oi va sull’albero così i lupi e i serpenti non ci vanno e si mette a dormire”.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a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VANTI2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INDIETRO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SANY0075" descr=""/>
          <p:cNvPicPr/>
          <p:nvPr/>
        </p:nvPicPr>
        <p:blipFill>
          <a:blip r:embed="rId3"/>
          <a:srcRect l="0" t="0" r="10418" b="0"/>
          <a:stretch/>
        </p:blipFill>
        <p:spPr>
          <a:xfrm>
            <a:off x="2362320" y="228600"/>
            <a:ext cx="65530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HPIM0396bis" descr=""/>
          <p:cNvPicPr/>
          <p:nvPr/>
        </p:nvPicPr>
        <p:blipFill>
          <a:blip r:embed="rId1"/>
          <a:stretch/>
        </p:blipFill>
        <p:spPr>
          <a:xfrm>
            <a:off x="6765840" y="2438280"/>
            <a:ext cx="2149560" cy="38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286000" y="228600"/>
            <a:ext cx="670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rappresentazione finiva qui insieme alla storia conosciuta dai bambini. La scenetta è stata ripetuta più volte in altri momenti e con altri bambini nei panni dei diversi personagg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HPIM0403bis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2647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HPIM0401bis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2541600" cy="36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HPIM0395bis" descr=""/>
          <p:cNvPicPr/>
          <p:nvPr/>
        </p:nvPicPr>
        <p:blipFill>
          <a:blip r:embed="rId4"/>
          <a:stretch/>
        </p:blipFill>
        <p:spPr>
          <a:xfrm>
            <a:off x="2362320" y="3809880"/>
            <a:ext cx="2803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HPIM0397bis" descr=""/>
          <p:cNvPicPr/>
          <p:nvPr/>
        </p:nvPicPr>
        <p:blipFill>
          <a:blip r:embed="rId5"/>
          <a:stretch/>
        </p:blipFill>
        <p:spPr>
          <a:xfrm>
            <a:off x="4876920" y="2895480"/>
            <a:ext cx="1962000" cy="35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INDIETRO" descr=""/>
          <p:cNvPicPr/>
          <p:nvPr/>
        </p:nvPicPr>
        <p:blipFill>
          <a:blip r:embed="rId6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58:10Z</dcterms:modified>
  <cp:revision>18</cp:revision>
  <dc:subject/>
  <dc:title>Presentazione di PowerPoint</dc:title>
</cp:coreProperties>
</file>